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549-37EB-4667-81AE-9D3F9ED6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C79-579B-4DCA-8FCE-AEE4FB05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C74-3171-4E2C-91B3-FD64A5DD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2B1-D140-424C-A13B-ACED7370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9A6-ABA5-4426-A1B3-C72B8E1D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22DF-4DB9-48E7-AADA-F6B44E9B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92A-98F8-4280-98A4-B5B01DF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5CB6-541C-4403-976B-AB5BD8A0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FF3A-6764-42C1-A12D-5AB84BE7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6B23-3881-4E4E-85C2-2B8117BD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2DB9-FEFF-4EF1-B934-8528E54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98E-B08A-49F5-8374-9AE18547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D94-B42F-4E57-9583-2C7AAD17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8760-6DF4-4608-921D-3C2ACFB4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33AE-9FB7-41D7-AB63-E8BC97E6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F79-E660-4D76-B589-3A0F5E60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A0E4-8ADD-44BF-BDA8-26FE0B4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BF3-7649-4924-BCAE-F4A76B2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875-57C6-4A27-8E11-AD99DED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4A4-662C-474A-B2E2-4E6D96D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8EC-36D3-4AB5-974F-433B4AEC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92A-09C6-4EEC-878A-54ACC45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969-F261-409E-B141-97C460C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8EE-B456-449D-9434-9C057C9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853E-7A9C-4EA0-8C03-40E8A9DD9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9D19-E17B-4FAF-A4FC-8F9F4E2A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4 Activités sup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4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Qu’est –ce que vous allez visiter si ? :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2133720"/>
            <a:ext cx="8458200" cy="3733560"/>
          </a:xfrm>
          <a:prstGeom prst="rect">
            <a:avLst/>
          </a:prstGeom>
          <a:solidFill>
            <a:srgbClr val="ff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physiq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cal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anima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’aven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vous amus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1. Choisissez une activité que vous avez fait.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2. Ne partagez pas cette info avec votre partenaire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3. Votre partenaire doit deviner ce que vous avez choisi.  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1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Oval Callout 2"/>
          <p:cNvSpPr/>
          <p:nvPr/>
        </p:nvSpPr>
        <p:spPr>
          <a:xfrm>
            <a:off x="6480" y="2057400"/>
            <a:ext cx="441936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deltaplan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Callout 6"/>
          <p:cNvSpPr/>
          <p:nvPr/>
        </p:nvSpPr>
        <p:spPr>
          <a:xfrm>
            <a:off x="5029200" y="243828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, je n’ai pas fa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delta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897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tinuez jusqu’à ce que vous trouvez ce que le partenaire a fait.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Oval Callout 2"/>
          <p:cNvSpPr/>
          <p:nvPr/>
        </p:nvSpPr>
        <p:spPr>
          <a:xfrm>
            <a:off x="152280" y="2514600"/>
            <a:ext cx="441972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cano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Callout 6"/>
          <p:cNvSpPr/>
          <p:nvPr/>
        </p:nvSpPr>
        <p:spPr>
          <a:xfrm>
            <a:off x="4800600" y="320040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i, j’ai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cano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deltapla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9" descr="j0148835"/>
          <p:cNvPicPr/>
          <p:nvPr/>
        </p:nvPicPr>
        <p:blipFill>
          <a:blip r:embed="rId1"/>
          <a:stretch/>
        </p:blipFill>
        <p:spPr>
          <a:xfrm>
            <a:off x="2819520" y="1828800"/>
            <a:ext cx="307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3-14T18:42:51Z</dcterms:modified>
  <cp:revision>40</cp:revision>
  <dc:subject/>
  <dc:title>Tu as une idée de cadeau pour…</dc:title>
</cp:coreProperties>
</file>